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0DF-9345-4F8F-BE01-EEB3237F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85B-B705-45A9-B16A-6DE1531F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26F-6003-4E6E-909E-08B31DA3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21E-0FF8-41EB-9061-92C06072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39A-699D-4A0F-827A-2AAA9FAF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1DC-C8C8-4E92-8FE1-B32212B2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F47-DD1C-4140-8540-DFC6DBDC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F73-AEEB-40E1-A46E-F6241D91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28D-33F6-4A4B-B3B6-C6F83E5C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DD46-111F-4F25-B8B8-ADB521B0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4DB-8618-4E50-9DF9-455B00D3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A38-F2D8-4FBE-88F2-E12CE20B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6E22-53BC-4CE1-958E-3FE28D167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mars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6132600" y="5526000"/>
            <a:ext cx="301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33526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8380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4869000"/>
            <a:ext cx="2666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/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omputer #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0"/>
            <a:ext cx="9144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8585f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&amp;M'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8585f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769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Mars"/>
          <p:cNvPicPr/>
          <p:nvPr/>
        </p:nvPicPr>
        <p:blipFill>
          <a:blip r:embed="rId1"/>
          <a:stretch/>
        </p:blipFill>
        <p:spPr>
          <a:xfrm>
            <a:off x="0" y="0"/>
            <a:ext cx="6400800" cy="312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63560" y="4075200"/>
            <a:ext cx="27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Lemelsons MIT progr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00"/>
                </a:solidFill>
                <a:uFillTx/>
                <a:latin typeface="Arial"/>
              </a:rPr>
              <a:t>M&amp;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January 1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876920"/>
            <a:ext cx="413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mar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24760" y="5726160"/>
            <a:ext cx="743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M&amp;Ms are a great bite size candies that can be stored any w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They are great for on the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Invention: M&amp;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It was the first candy to be sent to the troops during world wa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y were invented in the 194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y were also sent to the troops in the Spanish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 partners named the product for the first initials of their last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y were established in 194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Inventor: Forest E.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 was born on March 21, 1904.In Minnes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 was raised in Canada after his parents div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 entered the university of California at Berkeley and later transfered to Y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 was a highly competitive individual with a gift of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m his company, Mars Inc., established in franks home in Tacoma, Washington in 1911, came the ever popular snickers, milkyway, three musketeers and Mars Bar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20:54Z</dcterms:created>
  <dc:creator>install</dc:creator>
  <dc:description/>
  <dc:language>en-US</dc:language>
  <cp:lastModifiedBy>install</cp:lastModifiedBy>
  <dcterms:modified xsi:type="dcterms:W3CDTF">2011-01-14T16:59:56Z</dcterms:modified>
  <cp:revision>11</cp:revision>
  <dc:subject/>
  <dc:title>Slide 1</dc:title>
</cp:coreProperties>
</file>